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C86-BEEE-44AC-BDC1-46EDCA92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E8B-8605-48EF-9BFE-7451D18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DBF-CC86-4D15-BC31-B176A019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E25-6720-4D4F-BCD2-3F2615AE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9CC-82A4-47CB-88CF-C11033CF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B849-1CC2-48B1-A22F-0F2A6DF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3B8B-7741-42BD-843D-B8578EDB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7E6-2CB0-455E-9A1F-3B04535E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1629-95DA-4AD0-BA58-C59C402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11D8-07E7-4F9A-85CA-AB93B596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03A-4306-4CB1-B455-023B4D6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11-D4FB-4453-B3B3-C2427C2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6D0-45F4-4C79-96C5-FD610A8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1358-5AE8-4520-8D4E-04A6439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3518-4C96-4E90-A924-3BC5B45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AA4-4306-4A6A-92D7-7A1A36AA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43F1-9D67-4AE6-B6B2-E7FE5778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95C-2B6A-404B-A207-0A96532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708-9EC8-4ABF-97A9-1653E056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F6E-670A-4768-9A3A-24635DAE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C32-816D-460F-98F3-792E00B4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9ED-FAF2-4004-9F99-B700BBA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C6D-4571-457E-95BE-EA2C924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7D7-F5BD-4027-BE2D-69FED6DB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CCE-8A7F-41CB-A3EE-1BA25B9D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82B-26F9-43E1-BE61-50B51283D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et i Bridg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oring av spil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mmenligning av scor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og utregning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coring av spillet ved bordet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te er detaljert satt opp i § 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Utregningsmetoder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aljene finnes i § 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Reglene om minst 60 %  og bruken av Neubergs formel er hjemlet i denne paragraf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e også plansjeserien turneringsfor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tregn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øren bestemmer  hvilken utregningsmetode som skal bruk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som IMP eller MP brukes så gjelder reglene for bruken av dem i § 78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Neuberg’s formel er kun tilgjengelig i BK200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Justeringer må gjøres manuelt i andre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anuell sco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es om d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lederboka Bjarne Mathi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lemen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nskap av Per Nor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tch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2 poeng for alle svaker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alle lik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justerte scorer på andre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ummer resultatet for et lag - se i tabell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ummen av IMP gir grunnlaget for beregning av V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Øvingsopp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 SlipperR 1-4 fra Kilder\Nordland\Regnsk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med datamaski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Resultatene tastes inn i maskin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 på inntastingsbil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till inn beregningen slik du vil ha 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ruk kontrakt og stikk og evt. kontroll med score for å redusere feilpros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erieturneringer Butlerscore scores pr b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Howell og Mitchell turneringer scores pr spil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er scores pr kam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11:16:54Z</dcterms:created>
  <dc:creator>Per Nordland</dc:creator>
  <dc:description/>
  <dc:language>en-US</dc:language>
  <cp:lastModifiedBy>Per Nordland</cp:lastModifiedBy>
  <dcterms:modified xsi:type="dcterms:W3CDTF">2001-09-29T14:42:12Z</dcterms:modified>
  <cp:revision>1</cp:revision>
  <dc:subject/>
  <dc:title>Regnskapet i Bridge</dc:title>
</cp:coreProperties>
</file>